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7239000" cy="10666413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43AC3-384E-44DE-A926-5531733DC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2880" y="6424920"/>
            <a:ext cx="615312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CC181-56CE-4588-856F-B4C5AEB15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288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69576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497E7-C9D6-42E8-9482-C00EDF85C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23320" y="308124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703760" y="308124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2880" y="642492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23320" y="642492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703760" y="642492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7338E-A87C-4F89-B701-FD3AC7694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2567D-6E34-424B-8755-8DEA6EAC7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811E7-706D-4EFC-BC6A-16412DF0A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5F8D2-42F6-4C6E-9854-B24478D6E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55A84-D1FE-45F0-8A88-9101E10E5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42880" y="948960"/>
            <a:ext cx="6153120" cy="82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AD0FF-844A-47E9-B4F3-306B1885F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288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9958D-A910-4BE1-A739-15C239630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69576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579BE-DCDE-402C-A333-DFCD9A043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2880" y="6424920"/>
            <a:ext cx="615312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C1C84-E851-4F5E-A815-4E95BFAC5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31960" indent="-3207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9440" indent="-25560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90640" indent="-25704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303640" indent="-25740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303640" indent="-25740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303640" indent="-25740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42520" y="9718560"/>
            <a:ext cx="1508040" cy="712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473200" y="9718560"/>
            <a:ext cx="2292480" cy="712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187600" y="9718560"/>
            <a:ext cx="1508040" cy="712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2D0F3-E4D4-451C-8C7C-912F74DD87BC}" type="slidenum"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026"/>
          <p:cNvSpPr/>
          <p:nvPr/>
        </p:nvSpPr>
        <p:spPr>
          <a:xfrm>
            <a:off x="1085760" y="762120"/>
            <a:ext cx="1505160" cy="9677160"/>
          </a:xfrm>
          <a:prstGeom prst="rect">
            <a:avLst/>
          </a:prstGeom>
          <a:gradFill rotWithShape="0">
            <a:gsLst>
              <a:gs pos="0">
                <a:srgbClr val="4d7676"/>
              </a:gs>
              <a:gs pos="50000">
                <a:srgbClr val="a7ffff"/>
              </a:gs>
              <a:gs pos="100000">
                <a:srgbClr val="4d76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028"/>
          <p:cNvSpPr/>
          <p:nvPr/>
        </p:nvSpPr>
        <p:spPr>
          <a:xfrm>
            <a:off x="2908080" y="3048120"/>
            <a:ext cx="4016880" cy="11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t">
            <a:spAutoFit/>
          </a:bodyPr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</a:rPr>
              <a:t>ZÁM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podľa zákona č. 24/2006 Z.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o posudzovaní vplyvov na životné prostredi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1029"/>
          <p:cNvSpPr/>
          <p:nvPr/>
        </p:nvSpPr>
        <p:spPr>
          <a:xfrm>
            <a:off x="4545000" y="10058400"/>
            <a:ext cx="23353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algn="r"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AUGUST 201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1030"/>
          <p:cNvSpPr/>
          <p:nvPr/>
        </p:nvSpPr>
        <p:spPr>
          <a:xfrm>
            <a:off x="1981080" y="9982080"/>
            <a:ext cx="480060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1032"/>
          <p:cNvSpPr/>
          <p:nvPr/>
        </p:nvSpPr>
        <p:spPr>
          <a:xfrm>
            <a:off x="2827440" y="695160"/>
            <a:ext cx="441144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2800" spc="-1" strike="noStrike">
                <a:solidFill>
                  <a:srgbClr val="0033cc"/>
                </a:solidFill>
                <a:latin typeface="Calibri"/>
                <a:ea typeface="Calibri"/>
              </a:rPr>
              <a:t>Stavebný objekt Heli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2800" spc="-1" strike="noStrike">
                <a:solidFill>
                  <a:srgbClr val="0033cc"/>
                </a:solidFill>
                <a:latin typeface="Calibri"/>
                <a:ea typeface="Calibri"/>
              </a:rPr>
              <a:t>v lokalite Ružino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1034" descr=""/>
          <p:cNvPicPr/>
          <p:nvPr/>
        </p:nvPicPr>
        <p:blipFill>
          <a:blip r:embed="rId1"/>
          <a:stretch/>
        </p:blipFill>
        <p:spPr>
          <a:xfrm>
            <a:off x="2895480" y="9042480"/>
            <a:ext cx="685800" cy="666720"/>
          </a:xfrm>
          <a:prstGeom prst="rect">
            <a:avLst/>
          </a:prstGeom>
          <a:ln w="0">
            <a:noFill/>
          </a:ln>
        </p:spPr>
      </p:pic>
      <p:sp>
        <p:nvSpPr>
          <p:cNvPr id="47" name="Text Box 1038"/>
          <p:cNvSpPr/>
          <p:nvPr/>
        </p:nvSpPr>
        <p:spPr>
          <a:xfrm>
            <a:off x="2819520" y="7750080"/>
            <a:ext cx="3962160" cy="12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NAVRHOVATEĽ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Univerzitná nemocnica Bratislav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Pažítková 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821 01  Bratislav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1058"/>
          <p:cNvSpPr/>
          <p:nvPr/>
        </p:nvSpPr>
        <p:spPr>
          <a:xfrm>
            <a:off x="2819520" y="8686800"/>
            <a:ext cx="3962160" cy="12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ZHOTOVITEĽ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ENVICONSULT, spol. s r.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Obežná 7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01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08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ili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3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13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AutoShape 15"/>
          <p:cNvSpPr/>
          <p:nvPr/>
        </p:nvSpPr>
        <p:spPr>
          <a:xfrm>
            <a:off x="320760" y="-3024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AutoShape 15"/>
          <p:cNvSpPr/>
          <p:nvPr/>
        </p:nvSpPr>
        <p:spPr>
          <a:xfrm>
            <a:off x="473040" y="12240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AutoShape 17"/>
          <p:cNvSpPr/>
          <p:nvPr/>
        </p:nvSpPr>
        <p:spPr>
          <a:xfrm>
            <a:off x="625320" y="2746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AutoShape 19"/>
          <p:cNvSpPr/>
          <p:nvPr/>
        </p:nvSpPr>
        <p:spPr>
          <a:xfrm>
            <a:off x="168120" y="-433440"/>
            <a:ext cx="18385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Obrázok 4" descr=""/>
          <p:cNvPicPr/>
          <p:nvPr/>
        </p:nvPicPr>
        <p:blipFill>
          <a:blip r:embed="rId2"/>
          <a:srcRect l="0" t="20916" r="0" b="19627"/>
          <a:stretch/>
        </p:blipFill>
        <p:spPr>
          <a:xfrm>
            <a:off x="2841480" y="8020080"/>
            <a:ext cx="966960" cy="574560"/>
          </a:xfrm>
          <a:prstGeom prst="rect">
            <a:avLst/>
          </a:prstGeom>
          <a:ln w="0">
            <a:noFill/>
          </a:ln>
        </p:spPr>
      </p:pic>
      <p:pic>
        <p:nvPicPr>
          <p:cNvPr id="55" name="Obrázok 5" descr=""/>
          <p:cNvPicPr/>
          <p:nvPr/>
        </p:nvPicPr>
        <p:blipFill>
          <a:blip r:embed="rId3"/>
          <a:srcRect l="0" t="7225" r="0" b="9455"/>
          <a:stretch/>
        </p:blipFill>
        <p:spPr>
          <a:xfrm>
            <a:off x="426960" y="4487760"/>
            <a:ext cx="6378480" cy="29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5T14:21:49Z</dcterms:created>
  <dc:creator>Ivan Pirman</dc:creator>
  <dc:description/>
  <dc:language>en-US</dc:language>
  <cp:lastModifiedBy>peterh</cp:lastModifiedBy>
  <cp:lastPrinted>2018-08-07T07:21:46Z</cp:lastPrinted>
  <dcterms:modified xsi:type="dcterms:W3CDTF">2018-08-07T07:30:18Z</dcterms:modified>
  <cp:revision>82</cp:revision>
  <dc:subject/>
  <dc:title>Prezentace aplikace PowerPoint</dc:title>
</cp:coreProperties>
</file>